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A4D-8C1F-4532-8AE2-80AA73E3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015-C3CF-49DC-9E87-5629562E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655-BB2E-4C7F-94A4-BBCBAD56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530-9E32-450B-90DF-26B2E11C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867-50E3-417E-86BD-06D4EAA4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F07-D145-4E88-9F35-A8FA976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5B5-67A2-4DB8-9666-536CAD43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5C6-C01E-420D-BDB4-CA954F7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5A0-005C-42F0-9A09-4756DC3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5E1-F725-4BDD-A564-BC40EF6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786-AA12-4F92-9355-0E7E9FF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FF0-3381-4E30-82FD-D5740196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3E25-8798-4BE0-BB9B-29A5621B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3004920" cy="39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404640"/>
            <a:ext cx="534348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ansverse section of a Leaf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600960" y="45133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5400" y="2354400"/>
            <a:ext cx="9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27680" y="36496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040" y="19162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xy co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2492280"/>
            <a:ext cx="158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95640" y="3500280"/>
            <a:ext cx="208908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51640" y="2565360"/>
            <a:ext cx="1296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643280" y="4508640"/>
            <a:ext cx="19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4680000" cy="45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24360" y="90792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076720" y="1916280"/>
            <a:ext cx="1295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16360" y="2707920"/>
            <a:ext cx="1727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42900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708360" y="4941360"/>
            <a:ext cx="2735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084640"/>
            <a:ext cx="2592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70120" y="523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xy cu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46240" y="16542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lisad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24922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0560" y="35989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5600" y="46782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2480" y="583092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1125360"/>
            <a:ext cx="7848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d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Which gas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What two things does the plant need for photosynthes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ut aren’t exactly used up in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What colour of light does chlorophyll refl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What is the whole point of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What does the plant store glucose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What colour does iodine go if there is lots of this stor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Does a plant do respiration as well as photo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What is respi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Does respiration produce or use up carbon diox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780000" y="260280"/>
            <a:ext cx="187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12536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hlorophyll and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For a plant to produc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St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Using glucose and oxygen to mak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8:49:45Z</dcterms:created>
  <dc:creator>joe scrivens</dc:creator>
  <dc:description/>
  <dc:language>en-US</dc:language>
  <cp:lastModifiedBy>jscrivens</cp:lastModifiedBy>
  <dcterms:modified xsi:type="dcterms:W3CDTF">2006-11-20T10:52:58Z</dcterms:modified>
  <cp:revision>14</cp:revision>
  <dc:subject/>
  <dc:title>Slide 1</dc:title>
</cp:coreProperties>
</file>